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E03-CDC9-4B2D-A166-137EC734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48E-D9F7-4B43-9D4D-8E37283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FB5-7814-453B-B02A-50276943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2E9-C023-4506-9C98-A5FA8D72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AAE-2323-4D81-A43C-432E5610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A08-49D2-49B8-9BA7-3806018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E0A-C43E-4635-91D1-1F7461C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A72-4B03-4B44-B588-D9CBB0B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8AC-275F-4E60-B360-CB83FA6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745-AC82-45B7-9F6F-6542A0B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E3B-61DC-4B4A-9B6F-54B1D858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BB4-B73F-48E6-8165-9407869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6F0-D32F-4A5E-810D-B85B38BD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уществление основных графических операций от руки и с использованием чертёжных инстр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симов Илья, 646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 ребёнка построению основных графических операций от руки и с использованием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триховка в заданных 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дорожек разной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композиций из линий различных типов и разны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ение точек с помощью лине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линий с помощью линей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30:41Z</dcterms:created>
  <dc:creator>Илья</dc:creator>
  <dc:description/>
  <dc:language>en-US</dc:language>
  <cp:lastModifiedBy>Илья</cp:lastModifiedBy>
  <dcterms:modified xsi:type="dcterms:W3CDTF">2010-11-24T17:30:56Z</dcterms:modified>
  <cp:revision>1</cp:revision>
  <dc:subject/>
  <dc:title>Слайд 1</dc:title>
</cp:coreProperties>
</file>